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CD7-2587-432D-8261-250684A6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649-561D-47D2-90FF-0A702F9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BF5-3EAC-4C63-84B9-98747710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C09-847A-4AD7-9C33-9DA8E289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898-BBD1-40C4-B01D-26196BCA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226E-9889-4A3C-ACEC-C38DFDC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97AB-5A52-4905-AC8D-60BC835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D00-E7F4-4048-AF2C-6127E917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4A2D-2908-4225-9FF5-EF5BB42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F5F4-8603-4D78-83A1-BB7E1AB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AC9F-F9D5-4E0E-9494-8DA4B0C9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F8C-C8D4-4C61-9C32-B797C8E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239D-321C-4E76-ACF5-9B20BB2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1A4-283D-46C5-B636-8633382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67D-9FAD-4F7A-B2D8-FE08601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41B5-06FB-45E6-8261-C1A4100F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AF2-EC73-439D-87F5-4AF51ECC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4E-F0AA-49D0-B8DC-13E4F6B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F65-781E-4BDE-AC7D-ECCE85CA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7A0-7452-4A0E-BC73-D960D190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474-2D2B-42FB-861A-CE25D08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D98-4996-42D3-B9FC-43FD9C5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BBF-1B7F-4D05-9044-AC353E1E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4C3-7F12-4D59-8CB1-D5DA5C82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D9D8-E7C9-481E-9BF3-C348C1CEF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C841-098A-4464-979A-8C7D781F4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hapter Three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ighteenth-Century Colonial Life: African Slavery, Women, and the Great Awaken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2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 of the Great Awake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67652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ligious “Sharing” / Interdenominational co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ristianity to African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newed evangelizing of Native Amer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ounding of New Colleges and Univers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gular church attendance in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anging of At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Gravestone_Art_winged_cherub"/>
          <p:cNvPicPr/>
          <p:nvPr/>
        </p:nvPicPr>
        <p:blipFill>
          <a:blip r:embed="rId1"/>
          <a:stretch/>
        </p:blipFill>
        <p:spPr>
          <a:xfrm>
            <a:off x="4495680" y="1523880"/>
            <a:ext cx="4648320" cy="25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Gravestone_ArtSkull"/>
          <p:cNvPicPr/>
          <p:nvPr/>
        </p:nvPicPr>
        <p:blipFill>
          <a:blip r:embed="rId2"/>
          <a:stretch/>
        </p:blipFill>
        <p:spPr>
          <a:xfrm>
            <a:off x="0" y="1676520"/>
            <a:ext cx="4343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343400" y="228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liam Hut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william_hutson"/>
          <p:cNvPicPr/>
          <p:nvPr/>
        </p:nvPicPr>
        <p:blipFill>
          <a:blip r:embed="rId1"/>
          <a:stretch/>
        </p:blipFill>
        <p:spPr>
          <a:xfrm>
            <a:off x="0" y="228600"/>
            <a:ext cx="4487760" cy="6397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49568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itefield Conv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eacher at the Slave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inister at Stoney Creek Presbyterian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inister at the Independent Meeting in Charles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iary2"/>
          <p:cNvPicPr/>
          <p:nvPr/>
        </p:nvPicPr>
        <p:blipFill>
          <a:blip r:embed="rId1"/>
          <a:stretch/>
        </p:blipFill>
        <p:spPr>
          <a:xfrm>
            <a:off x="4724280" y="99072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diary3"/>
          <p:cNvPicPr/>
          <p:nvPr/>
        </p:nvPicPr>
        <p:blipFill>
          <a:blip r:embed="rId2"/>
          <a:stretch/>
        </p:blipFill>
        <p:spPr>
          <a:xfrm>
            <a:off x="304920" y="9144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hutreg1"/>
          <p:cNvPicPr/>
          <p:nvPr/>
        </p:nvPicPr>
        <p:blipFill>
          <a:blip r:embed="rId1"/>
          <a:stretch/>
        </p:blipFill>
        <p:spPr>
          <a:xfrm>
            <a:off x="0" y="711360"/>
            <a:ext cx="9144000" cy="60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43"/>
          <p:cNvPicPr/>
          <p:nvPr/>
        </p:nvPicPr>
        <p:blipFill>
          <a:blip r:embed="rId1"/>
          <a:stretch/>
        </p:blipFill>
        <p:spPr>
          <a:xfrm>
            <a:off x="0" y="0"/>
            <a:ext cx="8839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Content Placeholder 2" descr=""/>
          <p:cNvPicPr/>
          <p:nvPr/>
        </p:nvPicPr>
        <p:blipFill>
          <a:blip r:embed="rId1"/>
          <a:stretch/>
        </p:blipFill>
        <p:spPr>
          <a:xfrm>
            <a:off x="365040" y="1219320"/>
            <a:ext cx="83217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y did the numbers of African slaves transported to the North American colonies increase 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evidence is there of enslaved peoples’ resistance to the demands of the slave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were some of the more nuanced gradations of gender and sexuality in colonial North Amer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at were some of the wider social effects of the Great Awaken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2220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African Slave Trad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s, Destinations and St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4" descr="mapslavetrade"/>
          <p:cNvPicPr/>
          <p:nvPr/>
        </p:nvPicPr>
        <p:blipFill>
          <a:blip r:embed="rId1"/>
          <a:stretch/>
        </p:blipFill>
        <p:spPr>
          <a:xfrm>
            <a:off x="228600" y="1676520"/>
            <a:ext cx="8658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0" y="0"/>
            <a:ext cx="4724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Origins, Destinations and St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oat trade vs. outpost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hip conditions and arr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oat sale vs. market s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slave_trade_ad_000"/>
          <p:cNvPicPr/>
          <p:nvPr/>
        </p:nvPicPr>
        <p:blipFill>
          <a:blip r:embed="rId1"/>
          <a:stretch/>
        </p:blipFill>
        <p:spPr>
          <a:xfrm>
            <a:off x="380880" y="2209680"/>
            <a:ext cx="3867120" cy="434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ra023002"/>
          <p:cNvPicPr/>
          <p:nvPr/>
        </p:nvPicPr>
        <p:blipFill>
          <a:blip r:embed="rId2"/>
          <a:stretch/>
        </p:blipFill>
        <p:spPr>
          <a:xfrm>
            <a:off x="4762440" y="838080"/>
            <a:ext cx="4381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228600" y="1371600"/>
            <a:ext cx="3962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lie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tono and its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ltural contrib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s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514600" y="32220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frican American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2" descr="The-Old-Plantation"/>
          <p:cNvPicPr/>
          <p:nvPr/>
        </p:nvPicPr>
        <p:blipFill>
          <a:blip r:embed="rId1"/>
          <a:stretch/>
        </p:blipFill>
        <p:spPr>
          <a:xfrm>
            <a:off x="4038480" y="2647800"/>
            <a:ext cx="5105520" cy="37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men in colonial Amer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3520" y="2057400"/>
            <a:ext cx="5105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male African-Amer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or and middle class farm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ite urban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lantation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5" descr="colonialdress"/>
          <p:cNvPicPr/>
          <p:nvPr/>
        </p:nvPicPr>
        <p:blipFill>
          <a:blip r:embed="rId1"/>
          <a:stretch/>
        </p:blipFill>
        <p:spPr>
          <a:xfrm>
            <a:off x="5638680" y="914400"/>
            <a:ext cx="2957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eat Awakening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33520" y="990720"/>
            <a:ext cx="51051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ri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Ten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Jonathan Edw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Angry%20God"/>
          <p:cNvPicPr/>
          <p:nvPr/>
        </p:nvPicPr>
        <p:blipFill>
          <a:blip r:embed="rId1"/>
          <a:stretch/>
        </p:blipFill>
        <p:spPr>
          <a:xfrm>
            <a:off x="5753160" y="838080"/>
            <a:ext cx="339084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edwardsjonathan"/>
          <p:cNvPicPr/>
          <p:nvPr/>
        </p:nvPicPr>
        <p:blipFill>
          <a:blip r:embed="rId2"/>
          <a:stretch/>
        </p:blipFill>
        <p:spPr>
          <a:xfrm>
            <a:off x="2819520" y="2666880"/>
            <a:ext cx="284940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gilbert_tennet"/>
          <p:cNvPicPr/>
          <p:nvPr/>
        </p:nvPicPr>
        <p:blipFill>
          <a:blip r:embed="rId3"/>
          <a:stretch/>
        </p:blipFill>
        <p:spPr>
          <a:xfrm>
            <a:off x="0" y="2819520"/>
            <a:ext cx="2728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09880" y="114300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6" descr="George%20Whitefield%20Picture"/>
          <p:cNvPicPr/>
          <p:nvPr/>
        </p:nvPicPr>
        <p:blipFill>
          <a:blip r:embed="rId1"/>
          <a:stretch/>
        </p:blipFill>
        <p:spPr>
          <a:xfrm>
            <a:off x="762120" y="1447920"/>
            <a:ext cx="3458880" cy="47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whitefield1"/>
          <p:cNvPicPr/>
          <p:nvPr/>
        </p:nvPicPr>
        <p:blipFill>
          <a:blip r:embed="rId2"/>
          <a:stretch/>
        </p:blipFill>
        <p:spPr>
          <a:xfrm>
            <a:off x="5230800" y="2514600"/>
            <a:ext cx="34545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4343400" y="0"/>
            <a:ext cx="4038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eorge White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onial t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flu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 S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26:36Z</dcterms:created>
  <dc:creator>University of South Carolina</dc:creator>
  <dc:description/>
  <dc:language>en-US</dc:language>
  <cp:lastModifiedBy>Williamson, Franklin</cp:lastModifiedBy>
  <dcterms:modified xsi:type="dcterms:W3CDTF">2019-01-31T17:17:51Z</dcterms:modified>
  <cp:revision>28</cp:revision>
  <dc:subject/>
  <dc:title>Slide 1</dc:title>
</cp:coreProperties>
</file>